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FF3-0CE0-4E69-A29E-C7694F16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0DE-9688-4945-9E31-09CC651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BD5-B913-4F5E-AF09-A33F56A4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12F-FFCA-4E7B-967E-9A05ED11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E85AC-C496-4E4B-9363-38564C46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ACE07-57C9-423E-89BA-98704A50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BE8CC-E4D2-4CBA-B818-D4C0B977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3DF9B-5191-458B-95E8-46E21DF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3A01-54A1-485E-8D40-C190BF47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7D52B-A283-42BE-AFBF-2262B94B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1D5F-3B02-4D2B-A246-0AF78E6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3C5-69BE-486A-B210-D7F725A4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5B268-9625-46D1-AA0C-C68CBE9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092BC-7DCD-4DC7-9A8F-5787A5B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E530-391C-4A78-8EEB-278A59D7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2A1A3-9BB9-4298-A8E3-E43668B6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9F883-100B-46FF-869E-075B0D0F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419-7FFC-48DA-8DCD-4E43741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7A6-93F9-4985-A8DC-91EF175B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087-FA27-4A4C-A58D-8A6D6E15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8EE-C0CE-470D-A33B-735894B0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505-2E6F-4A80-9C0B-FA7DC0B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5E1-7A88-4BC0-AD1C-AF00D3F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CD8-8772-42C0-9D6B-BEDF745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262-4E16-4C6F-BD60-279B33C4B48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7EC-05BE-41E2-A1BD-6A9353591093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</a:rPr>
              <a:t>St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ber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y: Ahren McCutche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MC900198101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900198101[1]"/>
          <p:cNvPicPr/>
          <p:nvPr/>
        </p:nvPicPr>
        <p:blipFill>
          <a:blip r:embed="rId2"/>
          <a:stretch/>
        </p:blipFill>
        <p:spPr>
          <a:xfrm>
            <a:off x="0" y="0"/>
            <a:ext cx="2133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Problems on th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is one main problems that has happened to this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problem is pollution of the water that runs all through the rivers and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http://2.bp.blogspot.com/_SpH7EL7jLqU/Swux64HJHbI/AAAAAAAAAGg/-cQecMBM2qE/s1600/river-pollution-pv.jpg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on Organis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ver the past six years, the Humber River has been hit with 900 oil spills and 750 chemical sp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cteria levels haven't improved, fish habitat has deteriorated and summer water flows have decreas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there is pollution then the animals can’t live in the water and all the surrounding animals won’t be able to drink from the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probably kill of the entire or at least most of this ecosystem if it got too 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rst the weaker animals would die off then there predators would d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ck of food would cause their predators to die and this chain would go on until something is done or until most or all of the animal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ow Humans Effect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are the ones that are dumping our garbage into the river and strea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so in more rural areas we would put the pesticides on the plants that would cause runoff into the ri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to the Prob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teps to helping clean up the river have already been taken but more help is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we want to put the river back into the shape it was in before this was happening people al around Toronto will have to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eople living near the Humber river have already volunteered to help clean it up but that is not enough peo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is to get more people to help clean up the parts of the river that flow in Toronto because there are at least a million people that could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other thing that contributes to the pollution problem is runoff from fa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to this problem is to contol how much pesticide farmers can put on their cr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help reduce the pollution going into th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 think that fresh water streams are a wonderful thing that I want to preserve so my grandchildren can 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can happen if we all look out for these ecosystems and if we all help clean them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are many different solutions to the problems that have come up so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hrs.ca/Rivers/Humber/Humber_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themaplescottages.ca/userfiles/image/lake%20trout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ombat-fishing.com/SFWOzStreamMiddle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2.bp.blogspot.com/_SpH7EL7jLqU/Swux64HJHbI/AAAAAAAAAGg/-cQecMBM2qE/s1600/river-pollution-pv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 of Conten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 on animals by huma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ats a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interaction within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ada has the largest supply of freshwater of any country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reshwater biome has a wide range of organisms that live a sustainable lifestyle, whether they are aquatic or terrestr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salt concentration of the water is usually less than 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quatic animals and plants that live there can only survive because of this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an animal from this biome was moved to a marine biome it would die because it wouldn’t be used to that salt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biome consists of many resources necessary for the survival of organisms within their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different fish species live in this biome at this is one of our natur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http://themaplescottages.ca/userfiles/image/lake%20trout.jpg"/>
          <p:cNvPicPr/>
          <p:nvPr/>
        </p:nvPicPr>
        <p:blipFill>
          <a:blip r:embed="rId1"/>
          <a:stretch/>
        </p:blipFill>
        <p:spPr>
          <a:xfrm>
            <a:off x="533520" y="4952880"/>
            <a:ext cx="7619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re are 5 main types of Ecosystems within the fresh water Bi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y are; ponds, creeks, rivers, lakes and the one I will be focusing on is stream Eco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 will be looking at one set of streams in particular and this will be in the Humber Ri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Introduction to my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Humber River is located extensively in southern Ontario between Georgian Bay and Lake Ontar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flows through the Greater Toronto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s mouth is in Toronto and in the Etobicoke ar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main part of the Humber River travels 100 km through a variety of natural habitats in both rural and urban landsc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www.combat-fishing.com/SFWOzStreamMiddle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07Z</dcterms:created>
  <dc:creator>User</dc:creator>
  <dc:description/>
  <dc:language>en-US</dc:language>
  <cp:lastModifiedBy>Lisa</cp:lastModifiedBy>
  <dcterms:modified xsi:type="dcterms:W3CDTF">2010-10-18T12:27:02Z</dcterms:modified>
  <cp:revision>33</cp:revision>
  <dc:subject/>
  <dc:title>Streams</dc:title>
</cp:coreProperties>
</file>